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A63-7254-4BF6-907C-1D1C290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B71-6683-4466-ADBB-5168A1CA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C20-BB11-40BA-911C-B4CC3653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111-D17C-491C-9C0B-040460AC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3312-2001-43E5-B3F6-1C61193A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BC44-B8E3-4E12-82A4-41A884D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70DE-0EE1-406F-9FAD-3CB44AC7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C602-EADE-478E-BB48-A90F9AB8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5B44-C1C3-4DE9-89DB-389DAD8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02B0-10CF-4229-BD53-6B34FE6A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5E16-10F6-4F07-9514-A82982A4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C69-6931-4CC5-9D99-C0B4343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D74A-BD02-423C-B22A-F85C5097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0FA-099B-4D21-A780-4A1993D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F6CE-57DB-4FE7-B9F3-F9DDDE14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5ABF-12FC-4E05-AABD-6BBB618D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1DA8-E494-41C3-8A83-16463219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E9D-A5B7-43D0-85D7-7A37CED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097-828C-4409-A0BE-7729BFA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CA5-0DC0-41F0-81D4-A3229D6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1CE-DA21-4272-95B4-CDC2B3CB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637-3604-4D9A-84C8-BAC85798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AE8-33CD-47A2-BD35-1CA46AE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21C-0CB0-460E-9F63-562691B6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32BD-8147-42AC-8823-8173FF12634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39D4-FBFD-4EE2-BB88-75684196898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DSCN2388 - balões"/>
          <p:cNvPicPr/>
          <p:nvPr/>
        </p:nvPicPr>
        <p:blipFill>
          <a:blip r:embed="rId1"/>
          <a:stretch/>
        </p:blipFill>
        <p:spPr>
          <a:xfrm>
            <a:off x="0" y="0"/>
            <a:ext cx="9178920" cy="6891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0" y="2054160"/>
            <a:ext cx="9144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I FÓRUM DE INFORMAÇÃO EM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 ENCONTRO DE PROFISSIONAIS DE COMUNICAÇÃO DO MINISTÉRIO DA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553000" y="630252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asília, 24 de outubro de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214200" y="3524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resolução técnica da interoperabilidade e interconectividade dos sistemas e redes de informação não basta para assegurar a transformação das mensagens e os registros em informação e 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37960" y="327816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s valores da informação só se realizam quando incorporados nas práticas efetivas dos indivíduos e comun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É necessário achar os caminhos de uma nova intelig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Gómez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334800"/>
            <a:ext cx="935820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(...) uma inteligência [coletiva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istribuída por toda par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ncessantemente valoriz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ordenada em tempo re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e resulta em uma mobilização efetiva das competênc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uja base e o objetivo são o reconhecimento e o enriquecimento mútuos das pessoas (...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évy 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304920" y="304920"/>
            <a:ext cx="84582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bilizar é convocar voluntários a um propósito, com interpretações e sentidos compartilhados.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biliza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o de liber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untári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o de paix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ósi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o de pr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açõe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ti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o de informação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comunicação e edu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2"/>
          <p:cNvSpPr/>
          <p:nvPr/>
        </p:nvSpPr>
        <p:spPr>
          <a:xfrm>
            <a:off x="7144560" y="62866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rnardo T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ensar as práticas comunicacionais junto aos serviços de saúde requer perceber as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invisíveis de construção dos sentidos tecidas pelas interações dos sujeitos, cuja mobilização demanda um desejo e uma competência simbólica e comunicacio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ómez, 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Imagens\Marinas\rede e bar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CaixaDeTexto 4"/>
          <p:cNvSpPr/>
          <p:nvPr/>
        </p:nvSpPr>
        <p:spPr>
          <a:xfrm>
            <a:off x="500040" y="57312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Freestyle Script"/>
              </a:rPr>
              <a:t>TRABALHO EM RE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ixaDeTexto 5"/>
          <p:cNvSpPr/>
          <p:nvPr/>
        </p:nvSpPr>
        <p:spPr>
          <a:xfrm>
            <a:off x="7286760" y="6286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ário Ro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214200"/>
            <a:ext cx="91440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de é um convite a que os participantes se vejam como sujeitos responsáveis pela construção de cenários externos favoráveis ao novo que se quer constru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rabalhando em rede se potencializa a capacidade de produzir mudanças, especialmente se elas  são construídas a partir do saber e do poder compartilh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sa maneira se pode transformar esforços isolados em movimentos articulados, com muito maior potência de 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Uma rede é uma construção de sujeitos que se articulam horizontalmente, voluntariamente, desde a ba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s membros de uma rede devem ter um papel muito ativo na definição de seus rumos e dos caminhos que ela deve segu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u seja, os participantes de uma rede têm que ser sujeitos da sua própria construçã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85840" y="21420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ra trabalhar em rede é indispensá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1357200"/>
            <a:ext cx="91440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bandonar as posturas competiti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que não são os únicos capazes de produzir idéias e soluções inteli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ar permeável, estar aberto à reflexão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onhecer as qualidades das outras experiênc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13840" y="428760"/>
            <a:ext cx="8929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83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 com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xidade do t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abalho cole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 d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83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o nível das relações, onde é necessári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85840" y="2143080"/>
            <a:ext cx="861048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nhecer 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o outro exis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-  acei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hecer    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que o outro fa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-  inte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aborar    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juda esporádi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- recipr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perar     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rdos operativ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solidar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ociar-se 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artilhar objetiv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ursos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são co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-65160" y="142920"/>
            <a:ext cx="9209160" cy="6431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900000" y="5280120"/>
            <a:ext cx="81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Os múltiplos nós da rede têm capacidades distintas de mobilização, proposição e 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Imagens\Caribé\Recolhendo as redes 2.jpg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CaixaDeTexto 2"/>
          <p:cNvSpPr/>
          <p:nvPr/>
        </p:nvSpPr>
        <p:spPr>
          <a:xfrm>
            <a:off x="5857920" y="500040"/>
            <a:ext cx="307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00"/>
                </a:solidFill>
                <a:latin typeface="Freestyle Script"/>
              </a:rPr>
              <a:t>RE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3"/>
          <p:cNvSpPr/>
          <p:nvPr/>
        </p:nvSpPr>
        <p:spPr>
          <a:xfrm>
            <a:off x="5572080" y="5214960"/>
            <a:ext cx="35719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tê Mar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SC\ UF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T ComSaúde ABRA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ocruz DF e 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cleo de Comunicação\  DAPE\ SAS\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500040" y="1214280"/>
            <a:ext cx="8077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É importante que existam núcleos dinamizadores, que produzam propostas e provoquem a ação articulada de acordo com o potencial de cada participante, onde a estrutura deve existir somente para facilitar essas rel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redeBlack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2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-142920" y="181080"/>
            <a:ext cx="9468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Comic Sans MS"/>
              </a:rPr>
              <a:t>Implementação das práticas educativas  de prevenção e tratamento de escabi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Comic Sans MS"/>
              </a:rPr>
              <a:t>Ana Nilsa de Freitas &amp; Rosângela Maria Vargas Magalhães – D.S. Subúrbio Ferroviário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333399"/>
                </a:solidFill>
                <a:latin typeface="Comic Sans MS"/>
              </a:rPr>
              <a:t>CESF – ISC/UF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-142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sos para construir uma 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857160"/>
            <a:ext cx="91440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01600" indent="-201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riar identidade construindo um objetivo comum através da compreensão coletiva dos problemas e oport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oximar o objetivo comum através do intercâmbio de experiências e atividades conjuntas, construindo e compartilhando novos conhec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er capacidade de proposição e de negociação com base nas experiê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alizar planejamento conju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omentar circuitos comunic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Garantir  sustentab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28600" y="1371600"/>
            <a:ext cx="8915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andonar as relações verticais de po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duzir múltiplas estratégias para sensibilizar, mobilizar e articular todos os nó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arantir mecanismos de construção coletiva, que são essenciais para manter a articulação, a identidade e os princíp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 adesão dos indivíduos ao plano resulta da capacidade da organização de responder aos desejos de reconhecimento e potência das pessoas e/ou de engendrar um imaginário que comporta a espontaneidade, a experimentação e a crítica. Contudo, não existem métodos seguros para articular participação horizontal da base com preservação da missão organizacio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mpos,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786200" y="5429160"/>
            <a:ext cx="350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ComVisa, 2004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85840" y="577800"/>
            <a:ext cx="37861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principal desaf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ão é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miss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 informação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as o encont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ultur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diálogo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 particip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71760" y="70920"/>
            <a:ext cx="3071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d99694"/>
                </a:solidFill>
                <a:latin typeface="Arial"/>
                <a:ea typeface="Arial"/>
              </a:rPr>
              <a:t>OFICINA COMUNICAÇÃO E(M) SAÚDE</a:t>
            </a:r>
            <a:br>
              <a:rPr sz="1200"/>
            </a:br>
            <a:r>
              <a:rPr b="1" lang="pt-BR" sz="1200" spc="-1" strike="noStrike">
                <a:solidFill>
                  <a:srgbClr val="d99694"/>
                </a:solidFill>
                <a:latin typeface="Arial"/>
                <a:ea typeface="Arial"/>
              </a:rPr>
              <a:t>GT-COM | Salvador julho/2007</a:t>
            </a:r>
            <a:br>
              <a:rPr sz="1200"/>
            </a:br>
            <a:r>
              <a:rPr b="1" lang="pt-BR" sz="1200" spc="-1" strike="noStrike">
                <a:solidFill>
                  <a:srgbClr val="d99694"/>
                </a:solidFill>
                <a:latin typeface="Arial"/>
                <a:ea typeface="Arial"/>
              </a:rPr>
              <a:t>caco xavi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13840" y="428400"/>
            <a:ext cx="85726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Rede Sociotécnica </a:t>
            </a:r>
            <a:br>
              <a:rPr sz="1800"/>
            </a:br>
            <a:r>
              <a:rPr b="1" lang="pt-BR" sz="1400" spc="-1" strike="noStrike">
                <a:solidFill>
                  <a:srgbClr val="003399"/>
                </a:solidFill>
                <a:latin typeface="Arial"/>
                <a:ea typeface="Arial"/>
              </a:rPr>
              <a:t>(humanos e não-humano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Comunicação Pedag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Educação Comuni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Políticas integradas com/info/infot/educ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Rede Pública Nacional de Comunicação em Saú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Divulgação | Circulação | Democratização do Ace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3735"/>
                </a:solidFill>
                <a:latin typeface="Arial"/>
                <a:ea typeface="Arial"/>
              </a:rPr>
              <a:t>Compre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3735"/>
                </a:solidFill>
                <a:latin typeface="Arial"/>
                <a:ea typeface="Arial"/>
              </a:rPr>
              <a:t>Necessidades dos usuá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3735"/>
                </a:solidFill>
                <a:latin typeface="Arial"/>
                <a:ea typeface="Arial"/>
              </a:rPr>
              <a:t>Pesquisas de opinião e satisf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53735"/>
                </a:solidFill>
                <a:latin typeface="Arial"/>
                <a:ea typeface="Arial"/>
              </a:rPr>
              <a:t>Avaliação de impacto e recep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aixaDeTexto 8"/>
          <p:cNvSpPr/>
          <p:nvPr/>
        </p:nvSpPr>
        <p:spPr>
          <a:xfrm>
            <a:off x="6215040" y="378000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5b3d7"/>
                </a:solidFill>
                <a:latin typeface="Arial"/>
                <a:ea typeface="Arial"/>
              </a:rPr>
              <a:t>Mídias abertas e de massa</a:t>
            </a:r>
            <a:br>
              <a:rPr sz="1600"/>
            </a:br>
            <a:r>
              <a:rPr b="1" lang="pt-BR" sz="1600" spc="-1" strike="noStrike">
                <a:solidFill>
                  <a:srgbClr val="95b3d7"/>
                </a:solidFill>
                <a:latin typeface="Arial"/>
                <a:ea typeface="Arial"/>
              </a:rPr>
              <a:t>TVs e rádios comunitá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5b3d7"/>
                </a:solidFill>
                <a:latin typeface="Arial"/>
                <a:ea typeface="Arial"/>
              </a:rPr>
              <a:t>Propaganda | cont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5b3d7"/>
                </a:solidFill>
                <a:latin typeface="Arial"/>
                <a:ea typeface="Arial"/>
              </a:rPr>
              <a:t>Política edi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ixaDeTexto 9"/>
          <p:cNvSpPr/>
          <p:nvPr/>
        </p:nvSpPr>
        <p:spPr>
          <a:xfrm>
            <a:off x="6215040" y="2857680"/>
            <a:ext cx="27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5b3d7"/>
                </a:solidFill>
                <a:latin typeface="Arial"/>
                <a:ea typeface="Arial"/>
              </a:rPr>
              <a:t>Financiamento |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10"/>
          <p:cNvSpPr/>
          <p:nvPr/>
        </p:nvSpPr>
        <p:spPr>
          <a:xfrm>
            <a:off x="214200" y="3786120"/>
            <a:ext cx="55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Políticas de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Ações do SUS | imagem do SUS | logoma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Ações do Controle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Financi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  <a:ea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Digitalizar0030"/>
          <p:cNvPicPr/>
          <p:nvPr/>
        </p:nvPicPr>
        <p:blipFill>
          <a:blip r:embed="rId1"/>
          <a:stretch/>
        </p:blipFill>
        <p:spPr>
          <a:xfrm>
            <a:off x="-828720" y="0"/>
            <a:ext cx="111618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CaixaDeTexto 4"/>
          <p:cNvSpPr/>
          <p:nvPr/>
        </p:nvSpPr>
        <p:spPr>
          <a:xfrm>
            <a:off x="214200" y="7128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ixaDeTexto 5"/>
          <p:cNvSpPr/>
          <p:nvPr/>
        </p:nvSpPr>
        <p:spPr>
          <a:xfrm>
            <a:off x="2340000" y="587700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radece a sua atençã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DSCN1570-OrquídeaTom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1239840" y="27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91280" y="6000840"/>
            <a:ext cx="38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tmarques@ufba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terezinha.marques@saude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33480" y="5149800"/>
            <a:ext cx="91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Fragilidade e Vulnerabilidade d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261200" y="644688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BRASCO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720" y="500040"/>
            <a:ext cx="52880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Idade mídia 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ubim, 19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346840" y="1785960"/>
            <a:ext cx="398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ociedade Globaliz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Lógica Individu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deologia de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201760" y="39290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ercantilização da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6"/>
          <p:cNvSpPr/>
          <p:nvPr/>
        </p:nvSpPr>
        <p:spPr>
          <a:xfrm>
            <a:off x="6643800" y="62150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brasco, CCSS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3255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DSCN0858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490920" y="2421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Arial Black"/>
              </a:rPr>
              <a:t>S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85520" y="356760"/>
            <a:ext cx="6985440" cy="6126480"/>
          </a:xfrm>
          <a:prstGeom prst="rect">
            <a:avLst/>
          </a:prstGeom>
          <a:noFill/>
          <a:ln w="76320">
            <a:solidFill>
              <a:srgbClr val="008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55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5600" y="2000160"/>
            <a:ext cx="6659640" cy="155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lIns="182520" rIns="18252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fff00"/>
                </a:solidFill>
                <a:latin typeface="Arial Black"/>
              </a:rPr>
              <a:t>SU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0" descr="Universo"/>
          <p:cNvPicPr/>
          <p:nvPr/>
        </p:nvPicPr>
        <p:blipFill>
          <a:blip r:embed="rId1"/>
          <a:stretch/>
        </p:blipFill>
        <p:spPr>
          <a:xfrm>
            <a:off x="-779400" y="-353880"/>
            <a:ext cx="11834640" cy="7467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Esfera 1"/>
          <p:cNvPicPr/>
          <p:nvPr/>
        </p:nvPicPr>
        <p:blipFill>
          <a:blip r:embed="rId2"/>
          <a:stretch/>
        </p:blipFill>
        <p:spPr>
          <a:xfrm rot="21479400">
            <a:off x="-792000" y="1677960"/>
            <a:ext cx="8394480" cy="5826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333440" y="353880"/>
            <a:ext cx="73519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ff"/>
                </a:solidFill>
                <a:latin typeface="Arial Black"/>
              </a:rPr>
              <a:t>POLÍTICAS DE SAÚ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49120" y="1303200"/>
            <a:ext cx="729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ff"/>
                </a:solidFill>
                <a:latin typeface="Arial Black"/>
              </a:rPr>
              <a:t>Política</a:t>
            </a:r>
            <a:r>
              <a:rPr b="0" lang="pt-BR" sz="2800" spc="-1" strike="noStrike">
                <a:solidFill>
                  <a:srgbClr val="99ccff"/>
                </a:solidFill>
                <a:latin typeface="Agency FB"/>
              </a:rPr>
              <a:t> de Comunicação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0"/>
          <p:cNvSpPr/>
          <p:nvPr/>
        </p:nvSpPr>
        <p:spPr>
          <a:xfrm>
            <a:off x="523800" y="1771560"/>
            <a:ext cx="30240" cy="1579680"/>
          </a:xfrm>
          <a:prstGeom prst="pie">
            <a:avLst/>
          </a:prstGeom>
          <a:noFill/>
          <a:ln w="9360">
            <a:solidFill>
              <a:srgbClr val="99cc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323280" rIns="323280" tIns="161640" bIns="161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Esfera 2"/>
          <p:cNvPicPr/>
          <p:nvPr/>
        </p:nvPicPr>
        <p:blipFill>
          <a:blip r:embed="rId3"/>
          <a:stretch/>
        </p:blipFill>
        <p:spPr>
          <a:xfrm>
            <a:off x="673200" y="2730600"/>
            <a:ext cx="4857480" cy="3976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1058760" y="1771560"/>
            <a:ext cx="648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99ff"/>
                </a:solidFill>
                <a:latin typeface="Arial Black"/>
              </a:rPr>
              <a:t>Plano</a:t>
            </a:r>
            <a:r>
              <a:rPr b="0" lang="pt-BR" sz="2800" spc="-1" strike="noStrike">
                <a:solidFill>
                  <a:srgbClr val="3399ff"/>
                </a:solidFill>
                <a:latin typeface="Agency FB"/>
              </a:rPr>
              <a:t> de Comunicação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1589040" y="2246400"/>
            <a:ext cx="12600" cy="1280880"/>
          </a:xfrm>
          <a:prstGeom prst="pie">
            <a:avLst/>
          </a:prstGeom>
          <a:noFill/>
          <a:ln w="9360">
            <a:solidFill>
              <a:srgbClr val="0066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323280" rIns="323280" tIns="161640" bIns="161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Esfera 3"/>
          <p:cNvPicPr/>
          <p:nvPr/>
        </p:nvPicPr>
        <p:blipFill>
          <a:blip r:embed="rId4"/>
          <a:stretch/>
        </p:blipFill>
        <p:spPr>
          <a:xfrm>
            <a:off x="1846440" y="3460680"/>
            <a:ext cx="3047760" cy="253692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18"/>
          <p:cNvSpPr/>
          <p:nvPr/>
        </p:nvSpPr>
        <p:spPr>
          <a:xfrm flipH="1" rot="1098000">
            <a:off x="2417040" y="2917440"/>
            <a:ext cx="262080" cy="746640"/>
          </a:xfrm>
          <a:prstGeom prst="pie">
            <a:avLst/>
          </a:prstGeom>
          <a:noFill/>
          <a:ln w="9360">
            <a:solidFill>
              <a:srgbClr val="9900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323280" rIns="323280" tIns="161640" bIns="161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868400" y="2481120"/>
            <a:ext cx="7286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ff"/>
                </a:solidFill>
                <a:latin typeface="Arial Black"/>
              </a:rPr>
              <a:t>Estratégia</a:t>
            </a:r>
            <a:r>
              <a:rPr b="0" lang="pt-BR" sz="2800" spc="-1" strike="noStrike">
                <a:solidFill>
                  <a:srgbClr val="9933ff"/>
                </a:solidFill>
                <a:latin typeface="Agency FB"/>
              </a:rPr>
              <a:t> de Comunicação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Esfera 4"/>
          <p:cNvPicPr/>
          <p:nvPr/>
        </p:nvPicPr>
        <p:blipFill>
          <a:blip r:embed="rId5"/>
          <a:stretch/>
        </p:blipFill>
        <p:spPr>
          <a:xfrm>
            <a:off x="3494160" y="3897360"/>
            <a:ext cx="1149120" cy="949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3"/>
          <p:cNvSpPr/>
          <p:nvPr/>
        </p:nvSpPr>
        <p:spPr>
          <a:xfrm>
            <a:off x="3102120" y="2954160"/>
            <a:ext cx="648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Ação</a:t>
            </a:r>
            <a:r>
              <a:rPr b="0" lang="pt-BR" sz="2800" spc="-1" strike="noStrike">
                <a:solidFill>
                  <a:srgbClr val="ffcc00"/>
                </a:solidFill>
                <a:latin typeface="Agency FB"/>
              </a:rPr>
              <a:t> de Comunicação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5388120" y="4137120"/>
            <a:ext cx="2154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 Black"/>
              </a:rPr>
              <a:t>Mater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5" descr="Esfera 5"/>
          <p:cNvPicPr/>
          <p:nvPr/>
        </p:nvPicPr>
        <p:blipFill>
          <a:blip r:embed="rId6"/>
          <a:stretch/>
        </p:blipFill>
        <p:spPr>
          <a:xfrm>
            <a:off x="3875040" y="4075200"/>
            <a:ext cx="685800" cy="73008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26"/>
          <p:cNvSpPr/>
          <p:nvPr/>
        </p:nvSpPr>
        <p:spPr>
          <a:xfrm flipV="1" rot="20362200">
            <a:off x="4560840" y="4356000"/>
            <a:ext cx="820800" cy="251280"/>
          </a:xfrm>
          <a:prstGeom prst="pie">
            <a:avLst/>
          </a:prstGeom>
          <a:noFill/>
          <a:ln w="9360">
            <a:solidFill>
              <a:srgbClr val="0099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323280" rIns="323280" tIns="90000" b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5" descr="Esfera 4"/>
          <p:cNvPicPr/>
          <p:nvPr/>
        </p:nvPicPr>
        <p:blipFill>
          <a:blip r:embed="rId7"/>
          <a:stretch/>
        </p:blipFill>
        <p:spPr>
          <a:xfrm>
            <a:off x="6191280" y="5086440"/>
            <a:ext cx="1149480" cy="974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Esfera 5"/>
          <p:cNvPicPr/>
          <p:nvPr/>
        </p:nvPicPr>
        <p:blipFill>
          <a:blip r:embed="rId8"/>
          <a:stretch/>
        </p:blipFill>
        <p:spPr>
          <a:xfrm>
            <a:off x="8459640" y="5554800"/>
            <a:ext cx="684360" cy="75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4" descr="Esfera 4"/>
          <p:cNvPicPr/>
          <p:nvPr/>
        </p:nvPicPr>
        <p:blipFill>
          <a:blip r:embed="rId9"/>
          <a:stretch/>
        </p:blipFill>
        <p:spPr>
          <a:xfrm>
            <a:off x="7810560" y="1063800"/>
            <a:ext cx="1084320" cy="911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5" descr="Esfera 5"/>
          <p:cNvPicPr/>
          <p:nvPr/>
        </p:nvPicPr>
        <p:blipFill>
          <a:blip r:embed="rId10"/>
          <a:stretch/>
        </p:blipFill>
        <p:spPr>
          <a:xfrm>
            <a:off x="6589800" y="3193920"/>
            <a:ext cx="685800" cy="750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7" descr="Esfera 5"/>
          <p:cNvPicPr/>
          <p:nvPr/>
        </p:nvPicPr>
        <p:blipFill>
          <a:blip r:embed="rId11"/>
          <a:stretch/>
        </p:blipFill>
        <p:spPr>
          <a:xfrm>
            <a:off x="6465960" y="4371840"/>
            <a:ext cx="684000" cy="75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8" descr="Esfera 5"/>
          <p:cNvPicPr/>
          <p:nvPr/>
        </p:nvPicPr>
        <p:blipFill>
          <a:blip r:embed="rId12"/>
          <a:stretch/>
        </p:blipFill>
        <p:spPr>
          <a:xfrm>
            <a:off x="7667640" y="5987880"/>
            <a:ext cx="684360" cy="74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9" descr="Esfera 5"/>
          <p:cNvPicPr/>
          <p:nvPr/>
        </p:nvPicPr>
        <p:blipFill>
          <a:blip r:embed="rId13"/>
          <a:stretch/>
        </p:blipFill>
        <p:spPr>
          <a:xfrm>
            <a:off x="6589800" y="5794200"/>
            <a:ext cx="685800" cy="75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0" descr="Esfera 5"/>
          <p:cNvPicPr/>
          <p:nvPr/>
        </p:nvPicPr>
        <p:blipFill>
          <a:blip r:embed="rId14"/>
          <a:stretch/>
        </p:blipFill>
        <p:spPr>
          <a:xfrm>
            <a:off x="7810560" y="4805280"/>
            <a:ext cx="684000" cy="74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1" descr="Esfera 5"/>
          <p:cNvPicPr/>
          <p:nvPr/>
        </p:nvPicPr>
        <p:blipFill>
          <a:blip r:embed="rId15"/>
          <a:stretch/>
        </p:blipFill>
        <p:spPr>
          <a:xfrm>
            <a:off x="8209080" y="2954160"/>
            <a:ext cx="685800" cy="750960"/>
          </a:xfrm>
          <a:prstGeom prst="rect">
            <a:avLst/>
          </a:prstGeom>
          <a:ln w="0">
            <a:noFill/>
          </a:ln>
        </p:spPr>
      </p:pic>
      <p:sp>
        <p:nvSpPr>
          <p:cNvPr id="126" name="Freeform 52"/>
          <p:cNvSpPr/>
          <p:nvPr/>
        </p:nvSpPr>
        <p:spPr>
          <a:xfrm>
            <a:off x="3751200" y="3429000"/>
            <a:ext cx="11160" cy="47484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323280" rIns="323280" tIns="161640" bIns="161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3" descr="Esfera 4"/>
          <p:cNvPicPr/>
          <p:nvPr/>
        </p:nvPicPr>
        <p:blipFill>
          <a:blip r:embed="rId16"/>
          <a:stretch/>
        </p:blipFill>
        <p:spPr>
          <a:xfrm>
            <a:off x="7810560" y="3903840"/>
            <a:ext cx="1084320" cy="911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5" descr="Esfera 4"/>
          <p:cNvPicPr/>
          <p:nvPr/>
        </p:nvPicPr>
        <p:blipFill>
          <a:blip r:embed="rId17"/>
          <a:stretch/>
        </p:blipFill>
        <p:spPr>
          <a:xfrm>
            <a:off x="249120" y="120600"/>
            <a:ext cx="11494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720" y="529920"/>
            <a:ext cx="91803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Para desenvolver com responsabilidade social as práticas comunicativas no SUS, é essencial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 aplicar o paradigma da coerência entre os princípios do SUS e as práticas comunicacionai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 compreender a construção teórico-metodológica dos processos comunicacionais e sua essência política de disputa de sentid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 reconhecer modelos contra-hegemônicos que permitam uma maior aproximação à complexidade das práticas comunicacionais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.. discutir o imbricamento entre o planejamento, a gestão e as práticas de comunicaciona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51280" y="50760"/>
            <a:ext cx="5292720" cy="68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lanejamento Estratégico Situa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stão particip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o policên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Horizont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idire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co na promoção da saú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cnologias segundo as neces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berto e em re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luralidade dos atores com diferentes compreensões do processo saúde-doença e diferentes formas de enfrentamento dos determinantes sócio-culturais dos riscos e agravo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0" y="0"/>
            <a:ext cx="3780000" cy="68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lanejamento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stão cent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delo difusionista ou trans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Vertic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nidire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co na prevenção e na assist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cnologias perfor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echado e piramid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cada agravo um programa de saúde e\ou uma campanha de cunho comportamental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3"/>
          <p:cNvSpPr/>
          <p:nvPr/>
        </p:nvSpPr>
        <p:spPr>
          <a:xfrm>
            <a:off x="7858080" y="64882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ta, 20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DSCN1617-OcaOrquídeax"/>
          <p:cNvPicPr/>
          <p:nvPr/>
        </p:nvPicPr>
        <p:blipFill>
          <a:blip r:embed="rId1"/>
          <a:stretch/>
        </p:blipFill>
        <p:spPr>
          <a:xfrm>
            <a:off x="207180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8:26:19Z</dcterms:created>
  <dc:creator>TERESINHA MARQUES</dc:creator>
  <dc:description/>
  <dc:language>en-US</dc:language>
  <cp:lastModifiedBy>Acap - Som Projeção</cp:lastModifiedBy>
  <dcterms:modified xsi:type="dcterms:W3CDTF">2007-10-24T13:34:13Z</dcterms:modified>
  <cp:revision>51</cp:revision>
  <dc:subject/>
  <dc:title>Slide 1</dc:title>
</cp:coreProperties>
</file>